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8E2-DFAC-4D01-B613-F05F5F6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C41-BB25-4D96-9618-F0EE78C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C87-4C7A-4C89-84A9-2717CD64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27D-441D-4410-87AB-2860B637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3696-DD90-410E-91CB-2BED5E78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DB9-F571-4024-9E40-0898C08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EAD1-F2D7-4045-9C11-88B5EAD3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9BB9-293C-4404-8B36-1C947FB9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AA2-6BA6-432B-B0D4-E5E9095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2994-FB5A-41A3-922B-4418C9D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681-9194-47B9-BC95-FFFAE30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16C-2F61-438A-9028-680A8F1B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7879-97C7-4855-9F39-66D4184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7A8-3272-470E-AA8F-475176D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F1AA-7DB4-43A0-8F07-0CEAC0B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FE97-7E8E-4AF4-81BD-A2B9D885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27E-33CB-4FD6-B87E-7E12FDA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D41-0ECE-4FBA-A90D-BB30DB2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D0D-D7EB-4056-8274-227A1DA3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22-8158-497C-84CB-86649B91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D7E-3075-4D0D-9CC0-AD178C0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979-B3DF-45EB-A87A-0D06CDD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3CF-673C-4E28-8C27-95940CAD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EDB-0A77-4ED7-9F30-E5A73513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C7D-DB42-4802-8593-21E11CC75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6F8-6A3C-4D08-BEFB-FA0B36E6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27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mickeyl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usa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NITEDSTATES1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usa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NITEDSTATES1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3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Laura McDow</cp:lastModifiedBy>
  <dcterms:modified xsi:type="dcterms:W3CDTF">2010-07-29T11:18:05Z</dcterms:modified>
  <cp:revision>24</cp:revision>
  <dc:subject/>
  <dc:title>Slide 1</dc:title>
</cp:coreProperties>
</file>